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864F-A0F8-4E04-BCCE-14407B67DA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Red Fern Grow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1 - Understanding Senten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may come in different fo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noun as the subject – Billy wants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ouns as a subject – Little Ann and Old Dan are two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noun as the subject – He prays each night for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pronouns as the subject – He and she are both still awake because of the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hrase – Staying awake all night is no f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ause – What makes me mad is all the noi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e gets the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ill buy coon hounds when he gets the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we know what’s going on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if the following are complete sentences or dependent cla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 left my office that beautiful spring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as walking along whistling when I heard the dogf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wenty-five feet from me they caught him and down he w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on my kn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final whi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lley emptied into the street, he stopped and look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watch him disappear in the twilight sha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ever it was that had interrupted his life, he was trying to straighten it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turned to enter my 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caressed the smooth surfaces, my mind drifted back through the years, back to my boyhood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 echoed in Billy’s mind even after the night quie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there’s some action! It makes a very clear, complete sentenc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which part of the sentence (subject or predicate) is missing in the sentence fragments be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bucketful of t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dog-wan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wling and yelling for Ma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a talk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build a few sent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Bi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, young Billy was a nervous wre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at Sam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, our cat Samie scooted under the ba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you tell a complete sentence from an incomplete sentence? Usually you tell just by liste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hat? Who does what everyday? I don’t get it. This is not complet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of the f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, the glow of the fire grew lar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kled like a white star in the heav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, the smaller cup sparkled like a white star in the heav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ideo on Sentence Fra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brainpop.com/english/grammar/sentencefragments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Complete Sentence or Sentence Frag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found some slick little trails out in the garden down under some tall hollyhoc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I decided to make friends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ing they were game tra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a had another talk with Pa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your Student Packet and complete Lesson 1 Practice for Engli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 don’t care about the weather! Tell me who is doing wha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is a very simple sentence, but it has a subject [Billy] and a verb [hunts]. We know what happened and who did i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a little more information. There’s no confusion her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even more information, and it’s still very clea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lete sentence must have a subject and a predicate. The subject tells who or what does the action, and the predicate contains the verb and tells what the ac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is a word that expresses one of two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:  jump, scream, fly, r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of being:  appear, seem, f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ject can be any of the following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who does the action in the sentence. Grandpa sells goods in his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that does the action in the sentence. The general store swarms with people before the Fourth of July celeb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that does the action in the sentence. Flour and sugar are mixed together to make cook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described in the sentence. Grandpa is happy when he makes a good s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being described in the sentence. The general store is crowded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being described in the sentence. Cookies are best when the flour and sugar are fre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004F7-FD13-4441-8E50-30949F40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42947-261C-44C5-991D-CE6D5E56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A7ECE-2C45-4409-A7DA-ED1CC578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4C4AB-9782-4968-8F25-70933420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186D-7945-4271-B657-DD44D548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3297-D78E-478E-99BE-E2D0D629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B7DB-6A14-4498-9D6C-732D982F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A89E-A804-496B-8C3F-66F781C8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BD7E-E7E1-4559-9EEB-115C5EB2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3CF8-2274-4D0C-B804-B387325B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5497-A9DB-4D05-86B9-3257B5CC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2DE94-48D9-4A8D-96F8-D8C480DC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E1B4-9160-4F8C-8DFE-6BEBCB19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026F-5AE4-47B6-BD0B-8EBE0038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3E43-FEF9-4C54-B23D-7EAD7518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D50B-1680-4F1A-B005-F97D621C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F045-0D5D-4CC9-894D-EDAE1EF1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99FA3-479F-48B8-BB03-A84D2DC6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32E6-2108-4A3A-8E26-AECD4961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5C7F8-7DBB-41C2-BB48-E12D6D95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2594B-4268-4751-94CD-1ACBAC76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AD294-C0A4-4D86-9DFF-5497DBBD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A05E2-EC5B-4C71-8D00-9F88BA71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FF1B-01E2-4CD1-9F1C-83F7C01A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9DBD-D743-4959-896E-6ECA5B131F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FEF2-3F90-4597-BFAA-527D7B81D6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entencefragment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Where the Red Fern Grows 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sson 1 - Understanding Sentences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jects may come in different for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l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ants hound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nouns as a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ittle Ann and Old D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two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pro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ys each night for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pronouns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 and s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both still awake because of the coon hou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hra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aying awake all nigh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no fu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lau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hat makes me ma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ll the nois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us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he gets the mon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will buy coon hounds when he gets the mone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we know what’s going on!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termine if the following are complete sentences or dependent clauses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I left my office that beautiful spring 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was walking along whistling when I heard the dogfigh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out twenty-five feet from me they caught him and down he w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wn on my kne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final whimp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the alley emptied into the street, he stopped and looked ba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watch him disappear in the twilight shadow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ever it was that had interrupted his life, he was trying to straighten it 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turned to enter my yar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caressed the smooth surfaces, my mind drifted back through the years, back to my boyhood day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 echoed in Billy’s mind even after the night quie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there’s some action! It makes a very clear, complete sentenc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ll which part of the sentence (subject or predicate) is missing in the sentence fragments below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whole bucketful of tea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dog-want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wling and yelling for Mam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d a talk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Let’s build a few sentenc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ng Bi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, young Billy was a nervous wre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r cat Sam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, our cat Samie scooted under the ba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an you tell a complete sentence from an incomplete sentence? Usually you tell just by listen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day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hat? Who does what everyday? I don’t get it. This is not complet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low of the f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, the glow of the fire grew larg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arkled like a white star in the heav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, the smaller cup sparkled like a white star in the heave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 on Sentence Frag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sentence_fragments.asf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ain Po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brainpop.com/english/grammar/sentencefragments/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tice – Complete Sentence or Sentence Fragmen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found some slick little trails out in the garden down under some tall hollyh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ce I decided to make friends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nking they were game trail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ma had another talk with Pap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o to your Student Packet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nd complete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Lesson 1 Practice for English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 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I don’t care about the weather! Tell me who is doing wha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is a very simple sentence, but it has a subject [Billy] and a verb [hunts]. We know what happened and who did i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a little more information. There’s no confusion her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even more information, and it’s still very clear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plete sentence must have a subject and a predicate. The subject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es the action, and the predicate contains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action 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verb is a word that expresses one of two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on:  jump, scream, fly, ru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te of being:  appear, seem, fe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ubject can be any of the following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who does the action in the sentence. Grandpa sells goods in his general sto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that does the action in the sentence. The general store swarms with people before the Fourth of July celebr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that does the action in the sentence. Flour and sugar are mixed together to make cook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described in the sentence. Grandpa is happy when he makes a good se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being described in the sentence. The general store is crowded on Satur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being described in the sentence. Cookies are best when the flour and sugar are fres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21:36:30Z</dcterms:created>
  <dc:creator>Gay  Miller</dc:creator>
  <dc:description/>
  <dc:language>en-US</dc:language>
  <cp:lastModifiedBy>RomaK</cp:lastModifiedBy>
  <dcterms:modified xsi:type="dcterms:W3CDTF">2015-09-02T09:38:10Z</dcterms:modified>
  <cp:revision>29</cp:revision>
  <dc:subject/>
  <dc:title>Where the Red Fern Grows</dc:title>
</cp:coreProperties>
</file>